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C38F-41F3-43A9-811A-56EC8DB5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B31C-8955-4F43-ABF5-E223B4FB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7E8F-4DDB-43F0-9D7D-4B676D3D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6664-7150-48F9-BA8A-5CE09FBC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A88-7607-44A0-8B4E-AE045E81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2BF4-89B3-42CF-8074-FA172C0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CB6D-C397-4247-BC8F-449D785F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CB57-7A9A-4074-968A-6E3A45E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120-9263-48CC-B4AA-78605C1F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E66-27DC-454E-B6A5-3AC80D46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C2C-EBE5-40D1-A70F-EFC3D2C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DBEC-D6EF-4B20-8933-B0BA270A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14B4-FEFC-4E3E-9C74-BA60218A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419-94F2-4A64-82BD-06D0C21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7866-F762-48A9-BC93-A3251EBE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04BA-BA5C-43E9-BA2E-9E4FCD40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B76-405C-456E-A316-8C51319B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0EAC-D6CD-4E2E-82D4-0318B0F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4B1F-76A2-4273-84D1-61F65A3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8E7F-E6B2-439D-B3F4-C6057BA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60E4-F133-4BAF-9AEE-7AFA293B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C46C-8706-4619-95F0-C791EDB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DF7E-6BFC-4102-BB33-1D727BC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D745-88DD-405E-A7D3-B4442BB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DD6E-AC37-4430-8F0B-B5BE79036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1894-73A1-4D6B-BEBE-EDD244EFE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Gilded Age a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rban and Rural Discont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USH – Unit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ing Ke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 and McKinl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33-6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 vs.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ilve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ization/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65-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Urba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&amp;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Change and Refor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78-5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’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r T. vs. W.E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tio Al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ion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the Railro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 536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the Rai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ontinent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and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actions and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/ Gospel of Weal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5-5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P.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spel of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Economy of the South &amp; Rise of Labor Pages 551-5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vs.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market Ri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the Western Front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98-6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‘W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W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ations and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chers and Farm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09-6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of the Fron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tle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ight of the 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’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rison and the Rise of Popu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23-6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on Dollar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impact /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the Popu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ic of 18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man St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9:56:09Z</dcterms:created>
  <dc:creator>School District U46</dc:creator>
  <dc:description/>
  <dc:language>en-US</dc:language>
  <cp:lastModifiedBy>School District U46</cp:lastModifiedBy>
  <dcterms:modified xsi:type="dcterms:W3CDTF">2009-01-12T13:07:47Z</dcterms:modified>
  <cp:revision>2</cp:revision>
  <dc:subject/>
  <dc:title>The Gilded Age and Urban and Rural Discontent</dc:title>
</cp:coreProperties>
</file>